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gif" ContentType="image/gif"/>
  <Override PartName="/ppt/media/image1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415-B9BA-41E0-98CA-6072DE09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39A-437D-4A0E-9F70-20B00411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F2C-AE64-4D37-A6F9-DF857BE4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67B-761C-4AB4-BAC5-BD986E20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67D2-6DB8-4277-B931-43376BE5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190D-4901-4737-8899-B32ABD7B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8D79-AA78-45F7-99DD-80220B2E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1492-11CF-4E9E-B8C8-7FE6DA71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7039-922E-4B38-811F-3C6E5994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B4B4-8640-4212-9FE6-A772E22F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435A-CC71-4629-8231-F83BD2EC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829-CEDC-4ADC-8091-95B9CE31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BC33-27F9-4CE9-8B25-44180C98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A876-F330-4432-B9B9-9C4CCE7D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D386-C98E-457A-BB53-F08BB585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FEA5-233D-43FB-8F69-3ECE204B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B08D-4734-4084-AB44-25208C3E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4CE-32BD-4374-A1F7-BB8E0863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B2F-C290-47AC-9563-479E8392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250-7AAE-46EF-B30F-12C9F713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808-B284-4EC5-852F-F1823473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CA6-AD60-43EC-89F7-C8944891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238-FCF6-451D-ACE7-3D8D746B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123-7E61-4DD2-8467-D526F472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DFD5-7B39-471F-8DF4-C46BE621989C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AF12-67B1-4530-A6B9-E999744E6BA5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AB81-4D46-4F8E-8048-7D7732648E9E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E419-AEE4-4178-9A20-62A7FF5E46B9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.hk/imgres?imgurl=http://2.bp.blogspot.com/-96rckkDzm4w/TaRpnjXcIsI/AAAAAAAAAEI/TDM23kanjbM/s200/watchtv.gif&amp;imgrefurl=http://almuharrmi.blogspot.com/2011/04/watching-too-much-tv.html&amp;usg=__JYqK3J2XCY7V3aYtQkc1_VvVEro=&amp;h=451&amp;w=426&amp;sz=22&amp;hl=zh-CN&amp;start=6&amp;zoom=1&amp;tbnid=G3m6NGKvDcPPIM:&amp;tbnh=127&amp;tbnw=120&amp;ei=KZQEUouJDeWtiAeww4H4DQ&amp;prev=/search%3Fq%3Dwatch%2BTV%26newwindow%3D1%26safe%3Dstrict%26hl%3Dzh-CN%26gbv%3D2%26tbm%3Disch&amp;itbs=1&amp;sa=X&amp;ved=0CDUQrQMwBQ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129"/>
          <p:cNvSpPr/>
          <p:nvPr/>
        </p:nvSpPr>
        <p:spPr>
          <a:xfrm>
            <a:off x="1752480" y="2057400"/>
            <a:ext cx="5943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40   Move Your Body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3" name="图片 5132" descr="3421031-169620-three-young-friends-go-for-a-walk-the-park"/>
          <p:cNvPicPr/>
          <p:nvPr/>
        </p:nvPicPr>
        <p:blipFill>
          <a:blip r:embed="rId1"/>
          <a:stretch/>
        </p:blipFill>
        <p:spPr>
          <a:xfrm>
            <a:off x="4267080" y="3962520"/>
            <a:ext cx="2971800" cy="19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4409"/>
          <p:cNvSpPr/>
          <p:nvPr/>
        </p:nvSpPr>
        <p:spPr>
          <a:xfrm>
            <a:off x="1268640" y="1587600"/>
            <a:ext cx="64321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id Ben and Tim often do before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以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y does Ben worry about Tim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oes Ben send to Tim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文本框 14337"/>
          <p:cNvSpPr/>
          <p:nvPr/>
        </p:nvSpPr>
        <p:spPr>
          <a:xfrm>
            <a:off x="1066680" y="7621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矩形 14403"/>
          <p:cNvSpPr/>
          <p:nvPr/>
        </p:nvSpPr>
        <p:spPr>
          <a:xfrm>
            <a:off x="1600200" y="1981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often played games outdoor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矩形 14410"/>
          <p:cNvSpPr/>
          <p:nvPr/>
        </p:nvSpPr>
        <p:spPr>
          <a:xfrm>
            <a:off x="1600200" y="2971800"/>
            <a:ext cx="64771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cause Tim watches too much TV and plays too many computer game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矩形 14411"/>
          <p:cNvSpPr/>
          <p:nvPr/>
        </p:nvSpPr>
        <p:spPr>
          <a:xfrm>
            <a:off x="1600200" y="44197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 sends him a poem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55" descr="04"/>
          <p:cNvPicPr/>
          <p:nvPr/>
        </p:nvPicPr>
        <p:blipFill>
          <a:blip r:embed="rId1"/>
          <a:stretch/>
        </p:blipFill>
        <p:spPr>
          <a:xfrm>
            <a:off x="706320" y="5562720"/>
            <a:ext cx="7828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5361"/>
          <p:cNvSpPr/>
          <p:nvPr/>
        </p:nvSpPr>
        <p:spPr>
          <a:xfrm>
            <a:off x="838080" y="1600200"/>
            <a:ext cx="777240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ut now Ben worries about Tim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但是现在本担心蒂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文本框 15362"/>
          <p:cNvSpPr/>
          <p:nvPr/>
        </p:nvSpPr>
        <p:spPr>
          <a:xfrm>
            <a:off x="1143000" y="2514600"/>
            <a:ext cx="72388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orry about sb./sth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担心某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某事。也可说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worried about sb./sth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某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某事担心，强调状态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ack’s mother is worried about his stud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杰克的妈妈为他的学习担心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6" name="图片 15370" descr="3"/>
          <p:cNvPicPr/>
          <p:nvPr/>
        </p:nvPicPr>
        <p:blipFill>
          <a:blip r:embed="rId1"/>
          <a:stretch/>
        </p:blipFill>
        <p:spPr>
          <a:xfrm>
            <a:off x="6705720" y="990720"/>
            <a:ext cx="152388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16385"/>
          <p:cNvSpPr/>
          <p:nvPr/>
        </p:nvSpPr>
        <p:spPr>
          <a:xfrm>
            <a:off x="914400" y="720720"/>
            <a:ext cx="77724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He watches too much TV and plays too many computer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ame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看了太多的电视，玩了太多的电脑游戏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文本框 16386"/>
          <p:cNvSpPr/>
          <p:nvPr/>
        </p:nvSpPr>
        <p:spPr>
          <a:xfrm>
            <a:off x="1295280" y="235908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oo much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太多，跟不可数名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oo many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太多，跟可数名词复数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work took me too much tim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份工作花了我太多时间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581280" y="7621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0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37893"/>
          <p:cNvSpPr/>
          <p:nvPr/>
        </p:nvSpPr>
        <p:spPr>
          <a:xfrm>
            <a:off x="1066680" y="1447920"/>
            <a:ext cx="723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李亮体重正在增加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 Liang is _______ ______ 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要为我担心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n’t _____ _______ m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喜欢在户外玩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like t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 ________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文本框 37894"/>
          <p:cNvSpPr/>
          <p:nvPr/>
        </p:nvSpPr>
        <p:spPr>
          <a:xfrm>
            <a:off x="2971800" y="26114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utt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文本框 37899"/>
          <p:cNvSpPr/>
          <p:nvPr/>
        </p:nvSpPr>
        <p:spPr>
          <a:xfrm>
            <a:off x="2317680" y="3733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rr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矩形 37907"/>
          <p:cNvSpPr/>
          <p:nvPr/>
        </p:nvSpPr>
        <p:spPr>
          <a:xfrm>
            <a:off x="3308400" y="3733920"/>
            <a:ext cx="22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矩形 37908"/>
          <p:cNvSpPr/>
          <p:nvPr/>
        </p:nvSpPr>
        <p:spPr>
          <a:xfrm>
            <a:off x="4343400" y="2611440"/>
            <a:ext cx="7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文本框 37914"/>
          <p:cNvSpPr/>
          <p:nvPr/>
        </p:nvSpPr>
        <p:spPr>
          <a:xfrm>
            <a:off x="3429000" y="480060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文本框 37915"/>
          <p:cNvSpPr/>
          <p:nvPr/>
        </p:nvSpPr>
        <p:spPr>
          <a:xfrm>
            <a:off x="4191120" y="4800600"/>
            <a:ext cx="22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door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矩形 37916"/>
          <p:cNvSpPr/>
          <p:nvPr/>
        </p:nvSpPr>
        <p:spPr>
          <a:xfrm>
            <a:off x="5105520" y="2611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igh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0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32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4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5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0" name="文本框 33897"/>
          <p:cNvSpPr/>
          <p:nvPr/>
        </p:nvSpPr>
        <p:spPr>
          <a:xfrm>
            <a:off x="1143000" y="2622600"/>
            <a:ext cx="70866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朋友之间互相帮助非常重要。有没有哪个朋友曾帮过你呢？请你写下来表达对他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她的感谢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69639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Make hay while the sun shines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勿失良机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2" name="图片 69641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6964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like staying home or going out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is good for you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矩形 44053"/>
          <p:cNvSpPr/>
          <p:nvPr/>
        </p:nvSpPr>
        <p:spPr>
          <a:xfrm>
            <a:off x="3809880" y="53802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res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i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9" name="图片 44057" descr="u=1820425866,461066280&amp;fm=23&amp;gp=0"/>
          <p:cNvPicPr/>
          <p:nvPr/>
        </p:nvPicPr>
        <p:blipFill>
          <a:blip r:embed="rId1"/>
          <a:srcRect l="0" t="4212" r="0" b="4212"/>
          <a:stretch/>
        </p:blipFill>
        <p:spPr>
          <a:xfrm>
            <a:off x="2209680" y="1722600"/>
            <a:ext cx="464832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48143"/>
          <p:cNvSpPr/>
          <p:nvPr/>
        </p:nvSpPr>
        <p:spPr>
          <a:xfrm>
            <a:off x="3809880" y="5181480"/>
            <a:ext cx="1447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uc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1" name="图片 48149" descr="u=3521831155,4143020421&amp;fm=29&amp;gp=0"/>
          <p:cNvPicPr/>
          <p:nvPr/>
        </p:nvPicPr>
        <p:blipFill>
          <a:blip r:embed="rId1"/>
          <a:stretch/>
        </p:blipFill>
        <p:spPr>
          <a:xfrm>
            <a:off x="1447920" y="838080"/>
            <a:ext cx="6095880" cy="426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55300" descr="u=603831767,3219628046&amp;fm=23&amp;gp=0"/>
          <p:cNvPicPr/>
          <p:nvPr/>
        </p:nvPicPr>
        <p:blipFill>
          <a:blip r:embed="rId1"/>
          <a:stretch/>
        </p:blipFill>
        <p:spPr>
          <a:xfrm>
            <a:off x="1752480" y="1143000"/>
            <a:ext cx="541044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55301"/>
          <p:cNvSpPr/>
          <p:nvPr/>
        </p:nvSpPr>
        <p:spPr>
          <a:xfrm>
            <a:off x="3581280" y="5334120"/>
            <a:ext cx="35053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 outdoor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56324" descr="u=3656027056,486341841&amp;fm=23&amp;gp=0"/>
          <p:cNvPicPr/>
          <p:nvPr/>
        </p:nvPicPr>
        <p:blipFill>
          <a:blip r:embed="rId1"/>
          <a:stretch/>
        </p:blipFill>
        <p:spPr>
          <a:xfrm>
            <a:off x="2057400" y="114300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95" name="矩形 56325"/>
          <p:cNvSpPr/>
          <p:nvPr/>
        </p:nvSpPr>
        <p:spPr>
          <a:xfrm>
            <a:off x="3581280" y="518148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 computer gam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73730"/>
          <p:cNvSpPr/>
          <p:nvPr/>
        </p:nvSpPr>
        <p:spPr>
          <a:xfrm>
            <a:off x="6327360" y="4114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atch TV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7" name="图片 73732" descr="ANd9GcQ1g18cVIKJT0NSJtbL0JoVdoCDFW6yBTTLdJD6sHv9PkMsSeOsJ39f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371600"/>
            <a:ext cx="403236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70658"/>
          <p:cNvSpPr/>
          <p:nvPr/>
        </p:nvSpPr>
        <p:spPr>
          <a:xfrm>
            <a:off x="3582720" y="533412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 for a walk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9" name="图片 70659" descr="3421031-169620-three-young-friends-go-for-a-walk-the-park"/>
          <p:cNvPicPr/>
          <p:nvPr/>
        </p:nvPicPr>
        <p:blipFill>
          <a:blip r:embed="rId1"/>
          <a:stretch/>
        </p:blipFill>
        <p:spPr>
          <a:xfrm>
            <a:off x="1752480" y="1219320"/>
            <a:ext cx="5486400" cy="36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38940"/>
          <p:cNvSpPr/>
          <p:nvPr/>
        </p:nvSpPr>
        <p:spPr>
          <a:xfrm>
            <a:off x="1066680" y="10666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write T or F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矩形 38941"/>
          <p:cNvSpPr/>
          <p:nvPr/>
        </p:nvSpPr>
        <p:spPr>
          <a:xfrm>
            <a:off x="1143000" y="1752480"/>
            <a:ext cx="7162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1. Ben and Tim are good friend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2. Tim worries about Ben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3. Tim is putting on weight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 4. Ben writes a poem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矩形 38942"/>
          <p:cNvSpPr/>
          <p:nvPr/>
        </p:nvSpPr>
        <p:spPr>
          <a:xfrm>
            <a:off x="13669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矩形 38943"/>
          <p:cNvSpPr/>
          <p:nvPr/>
        </p:nvSpPr>
        <p:spPr>
          <a:xfrm>
            <a:off x="1371600" y="20574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矩形 38944"/>
          <p:cNvSpPr/>
          <p:nvPr/>
        </p:nvSpPr>
        <p:spPr>
          <a:xfrm>
            <a:off x="137304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矩形 38945"/>
          <p:cNvSpPr/>
          <p:nvPr/>
        </p:nvSpPr>
        <p:spPr>
          <a:xfrm>
            <a:off x="1373400" y="4267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6" name="图片 38946" descr="l055"/>
          <p:cNvPicPr/>
          <p:nvPr/>
        </p:nvPicPr>
        <p:blipFill>
          <a:blip r:embed="rId1"/>
          <a:stretch/>
        </p:blipFill>
        <p:spPr>
          <a:xfrm>
            <a:off x="914400" y="5334120"/>
            <a:ext cx="739152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32:52Z</dcterms:created>
  <dc:creator/>
  <dc:description/>
  <dc:language>en-US</dc:language>
  <cp:lastModifiedBy>Administrator</cp:lastModifiedBy>
  <dcterms:modified xsi:type="dcterms:W3CDTF">2019-01-02T01:36:07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